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ft off h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83A-7E77-4232-8150-D4CC40AA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456-BB1C-495B-B780-549AE0D0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49E-ED58-4CC3-B201-AD4AA1EF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8C7-0ECF-4442-A0C0-996CC973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D727-CC3A-4CB2-9602-06E84805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28A3-DF8C-4493-955E-449FCED4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6A57-25E1-4A41-B6F1-5C767B74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3E9B-7D29-4722-A870-91A00990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4789-4ADD-4402-A05E-3B978180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9A7F-54F6-45D2-A113-1C0817C1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56DF-88B3-4269-9E2E-90CAEDD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A0B-BB40-438B-957F-2E81A584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6886-59A2-4AA6-A829-4B9B59D7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D7AA-CD31-4971-B70D-DA09728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13B3-DA03-4B98-B819-0766E628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98F9-44EA-46E8-801F-BAF46304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4B85-A6A0-43F5-9C48-9B40224B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C47-0971-4ABE-B0ED-55350476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321-2027-407C-ADC3-C04E6F81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957-D60E-44AB-B1D4-53AAC0B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517-B4FE-4B12-82D3-5DDC8BA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D15-4516-4780-A39C-A2E5ADA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112-12EC-4774-B435-C1E4249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CD5-21FD-43FE-91EE-E7BBFCF8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Group 3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312840" y="431640"/>
                <a:ext cx="950760" cy="1293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787320" y="276120"/>
                  <a:ext cx="585720" cy="80172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03040" y="276120"/>
                  <a:ext cx="586080" cy="80172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9"/>
                <p:cNvSpPr/>
                <p:nvPr/>
              </p:nvSpPr>
              <p:spPr>
                <a:xfrm>
                  <a:off x="787320" y="1076400"/>
                  <a:ext cx="585720" cy="80172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203040" y="1076400"/>
                  <a:ext cx="586080" cy="80172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Group 11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Freeform 12"/>
              <p:cNvSpPr/>
              <p:nvPr/>
            </p:nvSpPr>
            <p:spPr>
              <a:xfrm>
                <a:off x="630360" y="334800"/>
                <a:ext cx="833400" cy="7621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44480" y="438120"/>
                <a:ext cx="606600" cy="5554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33400" y="452520"/>
                <a:ext cx="428760" cy="5270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993600" y="647640"/>
                <a:ext cx="108000" cy="13500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A782-D21E-4035-BE59-194192DD1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Group 3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287280" y="2498760"/>
                <a:ext cx="1177920" cy="17622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Group 5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Freeform 6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7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8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Freeform 9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10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Group 11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Freeform 12"/>
              <p:cNvSpPr/>
              <p:nvPr/>
            </p:nvSpPr>
            <p:spPr>
              <a:xfrm>
                <a:off x="782640" y="2468520"/>
                <a:ext cx="833400" cy="7621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96760" y="2571840"/>
                <a:ext cx="606600" cy="5554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985680" y="2585880"/>
                <a:ext cx="428760" cy="5270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1146240" y="2781360"/>
                <a:ext cx="108000" cy="13500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3827-A31E-4C1D-AFA6-69ADBCFAC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hapter 31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o a New Conservatism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1969–1988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he Watergate Scandal: Consequence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ed weaknesses and strengths of Americ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use of Presidential authority to keep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ed vitality of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judic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DIVI7233683"/>
          <p:cNvPicPr/>
          <p:nvPr/>
        </p:nvPicPr>
        <p:blipFill>
          <a:blip r:embed="rId1"/>
          <a:stretch/>
        </p:blipFill>
        <p:spPr>
          <a:xfrm>
            <a:off x="1905120" y="304920"/>
            <a:ext cx="5268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Economy of Stagfla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in the Mideast threatened U.S. supply of cheap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crisis and inflation were the res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ar and Oi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, 1973: Yom Kippur War— Egypt and Syria attacked Israel, but Israel w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C cut oil production 5% per month until Israel gave up occupied l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gave Israel emergency aid pack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b oil nations retaliated with boyco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persuaded Israel to pull back from some territory, embargo 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ar and Oi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C raised prices after embargo 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s of gasoline and home heating fuel rose shar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realized vulnerability of increasing dependence on foreign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ra for Americans: expansion and abundance met the reality of limited resources and economic stagn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he Oil Shocks:  Price Increases of Crude Oil and Gasoline, 1973–1985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6" name="Picture 6" descr="DIVI669"/>
          <p:cNvPicPr/>
          <p:nvPr/>
        </p:nvPicPr>
        <p:blipFill>
          <a:blip r:embed="rId1"/>
          <a:stretch/>
        </p:blipFill>
        <p:spPr>
          <a:xfrm>
            <a:off x="457200" y="2286000"/>
            <a:ext cx="815328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Great Infla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economy rested on cheap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C action caused price to quadruple in 1973–19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tion driven by oil prices, Federal budget deficits, global food shor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s rose, real incomes fell, economy worst since the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budget deficits and Fed policy result in record-high interest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5105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rouble Spots in the Middle Eas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2" name="Picture 4" descr="DIVI"/>
          <p:cNvPicPr/>
          <p:nvPr/>
        </p:nvPicPr>
        <p:blipFill>
          <a:blip r:embed="rId1"/>
          <a:srcRect l="1664" t="2538" r="2429" b="4236"/>
          <a:stretch/>
        </p:blipFill>
        <p:spPr>
          <a:xfrm>
            <a:off x="609480" y="2422440"/>
            <a:ext cx="792504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Shifting American Economy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economic growth slowed in mid-197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share of world markets dec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heavy industry dec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unions faded, public employee unions became more domi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technology prospered and big business divers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shifted from East and Midwest to Sunbe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New Environmentalis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shocks made average consumers more environmentally cons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energy to oil sought, but each has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0: Superfund set up to clean up toxic w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consumption and imports still up at end of 197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he Tempting of Richard Nixon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most controversial Presidents in U.S.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success in domestic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 important new ground in foreign re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gned under the cloud of Watergate scan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rivate Lives—Public Issu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American family gave way to more diverse living arran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working women increased shar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y rights movement emer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Changing American Family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ost 2-parent households, both parents wor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% of married coupes with children by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unmarried couples doubled in the 199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orce rate levels off at half of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riages ending in div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rate began to climb as baby boomers ma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Changing American Family:  New Family Structur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never marry or postpone 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others worked outside the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rtion of single-parent households doub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without partners head 1/3 of impoverished famil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comprised 40% of the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Gains and Setbacks for Wome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movement of women into wor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throughs for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s in industry, higher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appointed to Supreme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 business ownership increased substant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Rights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vs. Phyllis Schla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A falls 3 states short of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e v. Wa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s reproductive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Voting on the Equal Rights Amendmen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4" descr="DIVI7233691"/>
          <p:cNvPicPr/>
          <p:nvPr/>
        </p:nvPicPr>
        <p:blipFill>
          <a:blip r:embed="rId1"/>
          <a:stretch/>
        </p:blipFill>
        <p:spPr>
          <a:xfrm>
            <a:off x="1828800" y="2133720"/>
            <a:ext cx="52196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Gay Liberation Movemen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9: Stonewall Riot sparked gay rights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y Liberation Front and Gay Activist Alliance mai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0: Democrats included gay rights pl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0s: AIDS puts gay rights movement on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7: 600,000 marched on Wash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3: “Don’t Ask, Don’t Tell” policy a set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6: Defense of Marriage Act prohibited state recognition of same-sex u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0: Vermont legalized same-sex “civil unio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2" name="Picture 4" descr="DIVI7233692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AIDS Epidem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0880" y="2147760"/>
            <a:ext cx="87631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1: AIDS first detec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arent confinement to homosexual men results in   early public ina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to drug users, recipients of blood transfusions prompts p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gan Administration’s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funding for education, 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7: Appointment of AIDS commissio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AIDS Epidemic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dy rise in infection until by 1996 500,000 in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6: AIDS death rate began dro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r sexual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0 drops in death and infection rate dropped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devastating some third world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Politics and Diplomacy after Watergate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challenged prerogatives of the Presid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ction to solve America’s problem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1" name="Content Placeholder 3" descr="richard-nixon6.jpg"/>
          <p:cNvPicPr/>
          <p:nvPr/>
        </p:nvPicPr>
        <p:blipFill>
          <a:blip r:embed="rId1"/>
          <a:srcRect l="-20766" t="0" r="-20766" b="0"/>
          <a:stretch/>
        </p:blipFill>
        <p:spPr>
          <a:xfrm>
            <a:off x="685800" y="19810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Ford Administra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don of Nixon unpop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ic Congress ali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of illegal CIA activities under Kennedy and Joh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ed Democratic bills protecting the environment and civil righ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d vetoed 39 bills, proving himself to be more conservative than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arter and American Malaise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 played on public distrust of professional politicians, gets elected portraying himself as an outs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 had no discernible political philoso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r status hampers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9: Carter blamed American people for "national malaise" and fires some cabinet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Election of 1976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0" name="Picture 4" descr="DIVI7233TB3101"/>
          <p:cNvPicPr/>
          <p:nvPr/>
        </p:nvPicPr>
        <p:blipFill>
          <a:blip r:embed="rId1"/>
          <a:srcRect l="0" t="15725" r="0" b="0"/>
          <a:stretch/>
        </p:blipFill>
        <p:spPr>
          <a:xfrm>
            <a:off x="457200" y="2819520"/>
            <a:ext cx="82296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roubles Abroad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n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9: U.S. refused aid to Nicaraguan government against Sandinist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ter assisted El Salvador against Marxist re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 David Accords 1978: Peace between Israel and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nian Revolution of 19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omeini led Islamic fundamentalist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anian militants seized U.S. embassy and held 53 hostages after U.S. allowed deposed Shah into U.S. for medical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rouble Spots in Central America and the Caribbea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4" name="Picture 4" descr="DIVI"/>
          <p:cNvPicPr/>
          <p:nvPr/>
        </p:nvPicPr>
        <p:blipFill>
          <a:blip r:embed="rId1"/>
          <a:srcRect l="1083" t="2464" r="1849" b="2464"/>
          <a:stretch/>
        </p:blipFill>
        <p:spPr>
          <a:xfrm>
            <a:off x="1066680" y="2290680"/>
            <a:ext cx="73152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ollapse of Détente 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ter’s emphasis on human rights seen as repudiation of Déten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ter’s National Security Advisor Brzezinski opposed to Déten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9: SALT II signed, but not ra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9: Full diplomatic relations with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9: Soviets invaded Afghani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ter Doctrine armed opposition if Soviets moved closer to Persian Gu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boycotted 1980 Olymp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Reagan Revolu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moil of the 1960s and economic problems of 1970s made conservative turn inev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gate bought Democrats mor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was the attractive candidate Republicans needed to assure decisive vi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Election of 1980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ter’s trou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lation and high un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age crisis and Soviet invasion of Afghanistan made Carter look naïve and help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: “Are you better off now than you were 4 years ago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won in a land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 all Southern states but Geor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inroads into traditional New Deal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ublicans retook the Sen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7233704"/>
          <p:cNvPicPr/>
          <p:nvPr/>
        </p:nvPicPr>
        <p:blipFill>
          <a:blip r:embed="rId1"/>
          <a:stretch/>
        </p:blipFill>
        <p:spPr>
          <a:xfrm>
            <a:off x="2257560" y="533520"/>
            <a:ext cx="472572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utting Taxes and Spending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blamed country’s economic problems on high government s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y-side economics—cut taxes to encourage productive private inv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cut over thre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spending by more than $40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rvices included in cu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es cut by 25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ragmatic Liberalis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Great Society more efficient, not overthrow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 Federal programs and respon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Ac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Safety and Health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Protection A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of living increases for Social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Unleashing the Private Sector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egulation: Many environmental regulations re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agreed to voluntary export limits on automob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fired striking air traffic contro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curity changes cut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ite appointment of Sandra Day O’Connor, Reagan appointed only 3 other women and 1 African American male out of 73 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Reagan and the World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determined to restore America's international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world supremacy over Sovi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hallenging the "Evil Empire"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military expansion under Rea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:  Soviet Union the "focus of evil in the modern world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escalates arms 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ment of cruise missiles in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trategic Defense I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onfrontation in Central America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moderate, middle-class regimes led U.S. to support oppressive right-wing dictator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ut U.S. at odds with reform movements, whom U.S. saw as linked to Commu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reversed Carter support for Sandinistas, driving them to Sovi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began covert support for Contras after Congress rejects over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rouble Spots in Central America and the Caribbean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23" name="Picture 4" descr="DIVI7233713"/>
          <p:cNvPicPr/>
          <p:nvPr/>
        </p:nvPicPr>
        <p:blipFill>
          <a:blip r:embed="rId1"/>
          <a:stretch/>
        </p:blipFill>
        <p:spPr>
          <a:xfrm>
            <a:off x="762120" y="2424240"/>
            <a:ext cx="76197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More trouble in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Middle Eas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2: With U.S. encouragement, Israel  invaded Leba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, France send troops to maintain or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 evacuated to Tuni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4: 200 U.S. Marines killed in terrorist bomb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evacuation of Leba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rouble Spots in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Middle Eas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27" name="Picture 4" descr="DIVI7233712"/>
          <p:cNvPicPr/>
          <p:nvPr/>
        </p:nvPicPr>
        <p:blipFill>
          <a:blip r:embed="rId1"/>
          <a:stretch/>
        </p:blipFill>
        <p:spPr>
          <a:xfrm>
            <a:off x="533520" y="2362320"/>
            <a:ext cx="83055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Election of 1984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29" name="Picture 4" descr="DIVI7233TB3201"/>
          <p:cNvPicPr/>
          <p:nvPr/>
        </p:nvPicPr>
        <p:blipFill>
          <a:blip r:embed="rId1"/>
          <a:srcRect l="0" t="15847" r="0" b="0"/>
          <a:stretch/>
        </p:blipFill>
        <p:spPr>
          <a:xfrm>
            <a:off x="609480" y="2422440"/>
            <a:ext cx="84582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rading Arms for Hostag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ian-backed Lebanese militants seized 6 Americans host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weapons sold to Iran for influence in freeing American ho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iver North’s plan: Iran-Contra scan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t from Iran arms sales to Cont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clearly violates Boland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escaped impeachment, North and others were j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Reagan the Peacemake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5: Mikhail Gorbachev assumed power in Russ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5–1988: Reagan-Gorbachev su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7: Destroyed intermediate range miss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8: Afghanistan evacu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policy triumphs with Soviets, offsets Iran-Contra scan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ragmatic Liberalis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Federalis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fts public perception of responsibility for desegregation to courts and away from Whit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hallenging the New Dea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’s Presidency saw breakup of Democratic New Deal Coal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eal premises challenged by Reagan view that the private sector rather than government should be source of remedy for America’s 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 centerpieces of welfare state left i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overnment conservatism was wave of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étente: Approach 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more interested in foreign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Kissinger was his primary advi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and Kissinger had practical approach to diplom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 War traditional Great Power struggle, not ideological war with Commu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tente—relaxation of tensions with Sovi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étente: tactics and action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’s 1972 visit to China and the “China Car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ballistic Missile Treaty (AB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each side to 200 AB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 Arms Limitation Treaty (SAL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ze number of offensive ballistic missiles for 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Ending the Vietnam Wa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’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ual reduction of American troops and their replacement with trained South Vietnamese fo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fy American bomb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line at the peace tal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0: Invasion of Cambodia and Kent State shoo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ce signed in 1973: U.S. withdrew, North Vietnamese rem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5: North Vietnamese conquered South Vietn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Watergate Scanda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ers” Nixon’s private spies, arrested in 1972 breaking into Democratic Party Headquarters at Watergate Ho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1973: Senate inves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ing Senate hearings on cover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 House tapes discove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1974: The final ph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eme Court ruled Nixon must turn over ta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 Judiciary committee recommended impeach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ust 9, 1974: Resignation of Nix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1:23:48Z</dcterms:created>
  <dc:creator>CMU</dc:creator>
  <dc:description/>
  <cp:keywords/>
  <dc:language>en-US</dc:language>
  <cp:lastModifiedBy>Matthew Myers</cp:lastModifiedBy>
  <cp:lastPrinted>2008-10-31T13:01:12Z</cp:lastPrinted>
  <dcterms:modified xsi:type="dcterms:W3CDTF">2012-04-17T12:29:18Z</dcterms:modified>
  <cp:revision>37</cp:revision>
  <dc:subject/>
  <dc:title>CHAPTER 32 A CRISIS IN CONFIDENCE, 1969-1980</dc:title>
</cp:coreProperties>
</file>